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EA22-52F6-4333-9C2A-0AF3CA924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0CA-69F2-4341-AA2E-86FC63ED2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F070-2B7B-4A92-8875-372CD5A79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F45E-5915-42F6-ADFC-2BDD19927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C18D-90BD-4E77-A8E2-CAF86BA9D9B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E2C7-4B43-4370-B2E9-B8B7A50E32B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5735-E529-4F90-98A5-3FA9CAE165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D519-1667-4948-BB9C-5CAC9D6B3A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29B0-42B0-4742-B90D-E2641B883C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1BAF-3F36-439A-A21B-20309635C8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BDD2-F00F-44BF-B881-A4D8BC5A8E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BCD6-6721-4EA2-B6E4-B02787CC0C1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47F0-AC50-4A4B-B650-98538692F8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3422-32DA-44D2-BE5A-79EC00F5DAC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C4E0C-68B1-4C7A-A986-8E8C003AC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ED37-0E59-4DC2-B2B6-2D057430E94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0A017-6F99-4677-9478-70FFA448843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E6353-1BC4-4A83-85E2-8CD2586898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C3E82-DDF2-4561-BD8F-8BAF8E16FA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1707F-1231-4C17-A944-847C62987C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7D532-8B38-4489-BC01-3A9A9246E7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C13C9-A74C-43A7-8378-F00DD997C62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F118D-34CC-4E66-A338-174CFE845D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B78A0-8209-412F-9DAB-79503DE7CCD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4C610-F9A6-4E9C-88B3-D88EC71737E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60476-03A1-43B1-A91A-DC98E125F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7045-00A1-4052-8B84-D3E025C327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EA494-2957-4054-BDAD-77764B72C1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7EC15-98AF-4D6B-B5DF-E2E175C87F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0BD55-AA73-4442-A3DB-B4064F5341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126AA-608E-441D-90F9-AB2CB74AE8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0EFB1-FF7B-409B-8774-BB43D6D32F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E23EC-0C9C-4FAD-922D-00787E8395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AE0A5-48C7-4519-B175-8D3157A68A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76743-CCD6-4459-B10C-1CB716533A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07C26-7DEA-4950-AA92-A83FF60462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17535-D535-4F8A-A2CE-5B1FEE503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5EE3-62AD-48DF-89B0-A110F5DED9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C4230-EE6E-4810-B0AC-3D6AF72BE9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8D785-D5EF-439F-87EC-D54D04FC6FC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AC8D0-9F27-4199-9646-9F2B11D5E3C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E882-8683-42F8-9DE9-03ED4483A2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4D04-9A88-4FB6-84FA-F14C4C835B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382E-A65F-4A3A-A3CB-F13C9676AC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ACA93-F831-4ED1-A59A-534B659171A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9F2E-9231-49F1-9B14-FB5EC7FFEAF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2E72-960D-4904-8DEA-A530028FD0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D1C6-AD0F-4156-A3B5-5BB27C2791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0514-0C7F-4166-97F3-DB0AAF4E1CB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C5E0-2690-4B58-AF19-DA3C176CBF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0DC5-6244-48BD-B73D-92DE2120DD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EFC5-87DF-4556-A10B-4E0A948023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4A2E-469B-4540-B4AC-42891A1285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6255-80D8-40A9-87F3-59CBD358E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A4B1-A638-47A3-BA2F-9A2BE34456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20C1-FCFC-4D07-900E-4A23A50A05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1ECA-2AD6-44F4-ABB2-BEE2FFE01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F555-05FB-42CB-ACF1-1055D2C58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CB09-1B34-4ED8-A1F9-24C393CD46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02C2-1BA4-4061-8F21-DC8C020DB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A05D-DFDC-4DA6-A559-36AD736B4A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42F0-814A-468A-AAB3-39E73CF431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3E17-8724-47F2-ADA8-74BF7928D1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B2FE-ECBA-4C16-83B1-855EE33AD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179D-D8D9-45A8-9E97-7FBF3EAE93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9A4-0DCB-4571-952C-BB749FB7B0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837-27EF-4000-B91A-9A28DE4D13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2A9D-3DDD-413C-8A55-434B9297CF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5E2-FB44-46D5-84C2-993B6F97C3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3E1-E7F9-446B-9DB4-7A455BE23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9B02-7A42-44F2-AB45-EAF787D978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A5D-6A52-4DCF-8C9E-7EC169035E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811-11F3-4837-9B68-6766089E04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C61-1B96-4639-9B43-458E20C970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48F-1031-4FD8-8455-7DA3E3DC82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F64-26FE-4866-A351-B9FD282018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4D7-F0EA-45A0-8E95-5EABC2C5A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B4E-FC06-45F1-9E1F-CEF40D57C2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DD3BD-B17E-4320-A3D9-A3A389AD01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88A02-C4B7-4527-B0F7-95F7F702C4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FEF1A-E2DD-47B9-911C-249C3C680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1F8E-508A-44C3-A96B-17D12B8B36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83A07-47E4-463C-ACB6-C129610CE4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5A1E-A246-4FDA-9363-E468C35EC3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EAD3F-C70F-4CAA-9362-F41C36E761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83C7-136A-44B8-96A5-B3F84F2AD1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1453C-B231-4208-BDC6-776B1FEAC2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E99A0-F4EB-4082-AEC7-A022CF03B7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011FD-3271-408C-BE2C-AE2A301F2E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2753A-740A-4CB2-8259-F9466D1687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0C06-2FF4-426A-ACD6-47CC8A04D2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96CB-165C-4738-B3C4-C4B643F12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8512-4AA4-4495-A6B7-7906B476C2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05484-B30A-4F00-874A-92B586C636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5641E-A99B-4F80-998F-BBA92D1A1D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98C3E-3412-4CA6-9663-EFF20D2481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3DEE9-B828-4AA8-9D63-1B4D6B4FC5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5C3D-1373-43B6-926D-8A9AE12C50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6B70-CC27-418F-B7AB-7099A25927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22BAD-E371-4161-9010-D3938242DE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E0FC1-3F40-4F89-BADA-C2AC1CE06C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6229B-8F4D-41C1-AC5F-D134ED9F87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709F6-8C3C-4159-BF95-1043B5584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B258-60B0-4D6F-B064-8930FDB794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84725-FFD6-4BA2-B947-95342085A6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7F35-ABDC-4800-B5ED-5079C58EAB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4F2-4E50-40EB-B3CC-91F51DBBB0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8D6A-893F-4465-A989-3BD7E0A0CE3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2F89-112C-43F9-925B-5262C02E78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C467-504E-48DA-AFB2-4B457CF288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93B4-C430-4BFF-99BC-B93CC159CA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BDB-0E4C-4163-8F64-3349E7E500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C95F-A21F-484E-B117-DE21DD531A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9A99-20FF-4343-8476-64AB70FF9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102E-2EA8-42A6-A763-E40796F57E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95A-E19C-4C4E-BBEE-2A0D6761F9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E0F0-819B-42C0-B57A-658FE2FBB9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A16-CCBE-4700-8F80-08A6088961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0BD28-AFDA-44E1-B492-4B0870E8CF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F09B9-B65E-4CAC-9597-D6FDC0FE8F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72479-3032-48E4-9A27-2890A52D1F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FCF629-90AC-4FC3-AA57-E880EE8D27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26603-0692-42EA-8D5A-93F79DF499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B28ED-F227-474D-857E-44BE2B0518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E0BAF-359F-4A40-BDE0-7BAE28078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7A04-EBBA-47C8-AC0B-AE268C79F5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864B2-0CC9-4B39-B0FB-3F66141262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CBA9C-3782-473D-9684-FF50376A2E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A5541-B636-4450-8B11-AB698A135A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F1F43-FECF-4553-93F5-5ACD6BAEEE5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F13B2-3AA4-48F6-8907-0F4D46396F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3732A-4D18-406C-90FD-38109F0D1A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2EA3F-BAAB-481E-9464-7D823379BE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D5BEC-DF1B-40FE-9FE1-1C19BE17D8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86D63-6BB7-49E9-B43D-50240BA600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7425E-BE5C-4809-A9F3-C1C35D312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F821-D974-4686-87A0-B6AE9F16D2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63600" y="74160"/>
            <a:ext cx="7664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9569E-DF1F-41BE-8733-3585658072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2A73B-52BF-4A82-A0C6-D398D51B3F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41246-34BC-433A-A7F6-F7A43303942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0DBC0-64D0-4C46-B10F-21D06876641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B6B84-8734-4B90-9BB9-651D653AA3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4D70E-7F1C-481D-9980-6B889F09EE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DB92C-8234-4093-A8FA-FDC29775C5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5504-DEF6-4FE0-9A00-A2FD8C1296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4DE0-A9F2-44BB-983F-15776531B0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EB8D-9519-4E76-9690-052E76806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AF03-F0B6-415C-83DE-8B3060470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eos_logo"/>
          <p:cNvPicPr/>
          <p:nvPr/>
        </p:nvPicPr>
        <p:blipFill>
          <a:blip r:embed="rId4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447F-EF34-42ED-976C-B924E75F9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1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C46-396F-4930-9730-68DA2380E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2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96A-F4EC-4EA1-9438-1488C350F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98CC-D51C-410F-AA88-0DC026D3B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C94-7BD9-44EC-A975-87CD0748D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BE9-75FE-46FD-B229-F6073669B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C5C2-F88F-4BDB-93EC-CB1720C8E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9AF1-1837-4B81-A935-85BB4D0A2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E1D-E3DB-474C-B3E7-9AAF93962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0931-2830-45CA-94BE-A48F6140D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ceos_logo"/>
          <p:cNvPicPr/>
          <p:nvPr/>
        </p:nvPicPr>
        <p:blipFill>
          <a:blip r:embed="rId3"/>
          <a:stretch/>
        </p:blipFill>
        <p:spPr>
          <a:xfrm>
            <a:off x="7296120" y="76320"/>
            <a:ext cx="1828800" cy="9032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8"/>
          <p:cNvSpPr/>
          <p:nvPr/>
        </p:nvSpPr>
        <p:spPr>
          <a:xfrm>
            <a:off x="8305920" y="601992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E831-20EA-4BAB-95E9-99CDDEA6C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png"/><Relationship Id="rId10" Type="http://schemas.openxmlformats.org/officeDocument/2006/relationships/image" Target="../media/image18.png"/><Relationship Id="rId11" Type="http://schemas.openxmlformats.org/officeDocument/2006/relationships/image" Target="../media/image12.png"/><Relationship Id="rId12" Type="http://schemas.openxmlformats.org/officeDocument/2006/relationships/image" Target="../media/image1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CC8-C4D2-4A15-A308-9566FF5B05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b81"/>
                </a:solidFill>
                <a:latin typeface="Arial"/>
              </a:rPr>
              <a:t>The CEOS WGISS</a:t>
            </a:r>
            <a:br>
              <a:rPr sz="2800"/>
            </a:br>
            <a:r>
              <a:rPr b="1" lang="en-US" sz="2800" spc="-1" strike="noStrike">
                <a:solidFill>
                  <a:srgbClr val="184b81"/>
                </a:solidFill>
                <a:latin typeface="Arial"/>
              </a:rPr>
              <a:t>Atmospheric Composition Portal</a:t>
            </a:r>
            <a:endParaRPr b="1" lang="en-US" sz="2800" spc="-1" strike="noStrike">
              <a:solidFill>
                <a:srgbClr val="184b8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D20-AEA7-4DBA-BD72-85BEE56022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36600" y="21384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AC Portal</a:t>
            </a:r>
            <a:br>
              <a:rPr sz="3200"/>
            </a:b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Mission Statement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vide access, tools, and contextual guidance to scientists and value-adding organizations in using remotely sensed atmospheric composition data, information, and servic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elp foster interoperability and application of atmospheric composition data, information and services worldwid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dentify the unique requirements and common (shared) features of the ACC and GEOSS users to provide a value-added and complementary capabilit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476"/>
              </a:spcBef>
              <a:buSzPct val="1083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k with partners in CEOS and the broader AC community in advancing the AC Port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6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2"/>
          <p:cNvSpPr/>
          <p:nvPr/>
        </p:nvSpPr>
        <p:spPr>
          <a:xfrm>
            <a:off x="708660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5612-61E9-4086-8F76-2A27D54940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95280" y="192240"/>
            <a:ext cx="7664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Initial Capability</a:t>
            </a:r>
            <a:br>
              <a:rPr sz="3200"/>
            </a:b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Data and Service Flow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30" name="TextBox 34"/>
          <p:cNvSpPr/>
          <p:nvPr/>
        </p:nvSpPr>
        <p:spPr>
          <a:xfrm>
            <a:off x="378720" y="137160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 of AC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5"/>
          <p:cNvSpPr/>
          <p:nvPr/>
        </p:nvSpPr>
        <p:spPr>
          <a:xfrm>
            <a:off x="380880" y="1752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’ release: wdc.dlr.de/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581832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7" descr=""/>
          <p:cNvPicPr/>
          <p:nvPr/>
        </p:nvPicPr>
        <p:blipFill>
          <a:blip r:embed="rId1"/>
          <a:stretch/>
        </p:blipFill>
        <p:spPr>
          <a:xfrm>
            <a:off x="361476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358128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3"/>
          <a:stretch/>
        </p:blipFill>
        <p:spPr>
          <a:xfrm>
            <a:off x="3846600" y="5211720"/>
            <a:ext cx="744480" cy="6033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49"/>
          <p:cNvSpPr/>
          <p:nvPr/>
        </p:nvSpPr>
        <p:spPr>
          <a:xfrm>
            <a:off x="371052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0"/>
          <p:cNvSpPr/>
          <p:nvPr/>
        </p:nvSpPr>
        <p:spPr>
          <a:xfrm>
            <a:off x="3874680" y="5364000"/>
            <a:ext cx="5814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S DI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1"/>
          <p:cNvSpPr/>
          <p:nvPr/>
        </p:nvSpPr>
        <p:spPr>
          <a:xfrm>
            <a:off x="366444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648320" y="48769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4"/>
          <a:stretch/>
        </p:blipFill>
        <p:spPr>
          <a:xfrm>
            <a:off x="6397560" y="2438280"/>
            <a:ext cx="1656000" cy="1330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7" descr=""/>
          <p:cNvPicPr/>
          <p:nvPr/>
        </p:nvPicPr>
        <p:blipFill>
          <a:blip r:embed="rId5"/>
          <a:srcRect l="0" t="11168" r="0" b="0"/>
          <a:stretch/>
        </p:blipFill>
        <p:spPr>
          <a:xfrm>
            <a:off x="5730840" y="4923000"/>
            <a:ext cx="685800" cy="4982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2"/>
          <p:cNvSpPr/>
          <p:nvPr/>
        </p:nvSpPr>
        <p:spPr>
          <a:xfrm>
            <a:off x="586008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0" descr=""/>
          <p:cNvPicPr/>
          <p:nvPr/>
        </p:nvPicPr>
        <p:blipFill>
          <a:blip r:embed="rId6"/>
          <a:stretch/>
        </p:blipFill>
        <p:spPr>
          <a:xfrm>
            <a:off x="7669080" y="4956120"/>
            <a:ext cx="749520" cy="5968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71"/>
          <p:cNvSpPr/>
          <p:nvPr/>
        </p:nvSpPr>
        <p:spPr>
          <a:xfrm>
            <a:off x="7701480" y="510552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75"/>
          <p:cNvSpPr/>
          <p:nvPr/>
        </p:nvSpPr>
        <p:spPr>
          <a:xfrm>
            <a:off x="3429000" y="4648320"/>
            <a:ext cx="1752480" cy="18288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76"/>
          <p:cNvSpPr/>
          <p:nvPr/>
        </p:nvSpPr>
        <p:spPr>
          <a:xfrm>
            <a:off x="5410080" y="4724280"/>
            <a:ext cx="1524240" cy="18288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15">
                <a:moveTo>
                  <a:pt x="3600" y="0"/>
                </a:moveTo>
                <a:arcTo wR="3600" hR="3600" stAng="16200000" swAng="-5400000"/>
                <a:lnTo>
                  <a:pt x="0" y="22315"/>
                </a:lnTo>
                <a:arcTo wR="3600" hR="3600" stAng="10800000" swAng="-5400000"/>
                <a:lnTo>
                  <a:pt x="18000" y="25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77"/>
          <p:cNvSpPr/>
          <p:nvPr/>
        </p:nvSpPr>
        <p:spPr>
          <a:xfrm>
            <a:off x="731520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8"/>
          <p:cNvSpPr/>
          <p:nvPr/>
        </p:nvSpPr>
        <p:spPr>
          <a:xfrm>
            <a:off x="374976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9"/>
          <p:cNvSpPr/>
          <p:nvPr/>
        </p:nvSpPr>
        <p:spPr>
          <a:xfrm>
            <a:off x="564408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0"/>
          <p:cNvSpPr/>
          <p:nvPr/>
        </p:nvSpPr>
        <p:spPr>
          <a:xfrm>
            <a:off x="715392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Shape 83"/>
          <p:cNvCxnSpPr>
            <a:stCxn id="548" idx="0"/>
          </p:cNvCxnSpPr>
          <p:nvPr/>
        </p:nvCxnSpPr>
        <p:spPr>
          <a:xfrm flipH="1" flipV="1" rot="5400000">
            <a:off x="5484600" y="2773080"/>
            <a:ext cx="259200" cy="263736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552" name="Shape 85"/>
          <p:cNvCxnSpPr>
            <a:stCxn id="548" idx="0"/>
          </p:cNvCxnSpPr>
          <p:nvPr/>
        </p:nvCxnSpPr>
        <p:spPr>
          <a:xfrm flipH="1" flipV="1" rot="5400000">
            <a:off x="5535360" y="2528640"/>
            <a:ext cx="452880" cy="2932560"/>
          </a:xfrm>
          <a:prstGeom prst="curvedConnector5">
            <a:avLst>
              <a:gd name="adj1" fmla="val 49960"/>
              <a:gd name="adj2" fmla="val 49993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hape 86"/>
          <p:cNvCxnSpPr>
            <a:stCxn id="549" idx="0"/>
          </p:cNvCxnSpPr>
          <p:nvPr/>
        </p:nvCxnSpPr>
        <p:spPr>
          <a:xfrm flipH="1" flipV="1" rot="5400000">
            <a:off x="6465600" y="3504960"/>
            <a:ext cx="498960" cy="1026000"/>
          </a:xfrm>
          <a:prstGeom prst="curvedConnector5">
            <a:avLst>
              <a:gd name="adj1" fmla="val 49963"/>
              <a:gd name="adj2" fmla="val 49982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hape 88"/>
          <p:cNvCxnSpPr>
            <a:stCxn id="550" idx="0"/>
          </p:cNvCxnSpPr>
          <p:nvPr/>
        </p:nvCxnSpPr>
        <p:spPr>
          <a:xfrm flipV="1" rot="16200000">
            <a:off x="7353000" y="3642840"/>
            <a:ext cx="514440" cy="7660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116"/>
          <p:cNvCxnSpPr/>
          <p:nvPr/>
        </p:nvCxnSpPr>
        <p:spPr>
          <a:xfrm>
            <a:off x="578808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556" name="Rounded Rectangle 121"/>
          <p:cNvSpPr/>
          <p:nvPr/>
        </p:nvSpPr>
        <p:spPr>
          <a:xfrm>
            <a:off x="624852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Curved Connector 123"/>
          <p:cNvCxnSpPr>
            <a:stCxn id="556" idx="2"/>
          </p:cNvCxnSpPr>
          <p:nvPr/>
        </p:nvCxnSpPr>
        <p:spPr>
          <a:xfrm rot="5400000">
            <a:off x="7308360" y="2126880"/>
            <a:ext cx="229320" cy="394560"/>
          </a:xfrm>
          <a:prstGeom prst="curvedConnector5">
            <a:avLst>
              <a:gd name="adj1" fmla="val 50000"/>
              <a:gd name="adj2" fmla="val 4995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8" name="Picture 47" descr=""/>
          <p:cNvPicPr/>
          <p:nvPr/>
        </p:nvPicPr>
        <p:blipFill>
          <a:blip r:embed="rId7"/>
          <a:srcRect l="11239" t="10006" r="14997" b="4025"/>
          <a:stretch/>
        </p:blipFill>
        <p:spPr>
          <a:xfrm>
            <a:off x="7794720" y="1608120"/>
            <a:ext cx="76176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9" name="TextBox 127"/>
          <p:cNvSpPr/>
          <p:nvPr/>
        </p:nvSpPr>
        <p:spPr>
          <a:xfrm>
            <a:off x="805140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8"/>
          <p:cNvSpPr/>
          <p:nvPr/>
        </p:nvSpPr>
        <p:spPr>
          <a:xfrm>
            <a:off x="671400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27"/>
          <p:cNvSpPr/>
          <p:nvPr/>
        </p:nvSpPr>
        <p:spPr>
          <a:xfrm>
            <a:off x="7924680" y="3352680"/>
            <a:ext cx="955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Portal Site at 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0"/>
          <p:cNvSpPr/>
          <p:nvPr/>
        </p:nvSpPr>
        <p:spPr>
          <a:xfrm>
            <a:off x="4648320" y="571500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8"/>
          <a:srcRect l="3768" t="10037" r="5633" b="5985"/>
          <a:stretch/>
        </p:blipFill>
        <p:spPr>
          <a:xfrm>
            <a:off x="6477120" y="1614600"/>
            <a:ext cx="838080" cy="48564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sp>
        <p:nvSpPr>
          <p:cNvPr id="564" name="TextBox 127"/>
          <p:cNvSpPr/>
          <p:nvPr/>
        </p:nvSpPr>
        <p:spPr>
          <a:xfrm>
            <a:off x="6607080" y="1828800"/>
            <a:ext cx="10890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7" descr=""/>
          <p:cNvPicPr/>
          <p:nvPr/>
        </p:nvPicPr>
        <p:blipFill>
          <a:blip r:embed="rId9"/>
          <a:stretch/>
        </p:blipFill>
        <p:spPr>
          <a:xfrm>
            <a:off x="7808760" y="5748480"/>
            <a:ext cx="744840" cy="5428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51"/>
          <p:cNvSpPr/>
          <p:nvPr/>
        </p:nvSpPr>
        <p:spPr>
          <a:xfrm>
            <a:off x="7855560" y="59436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6" descr=""/>
          <p:cNvPicPr/>
          <p:nvPr/>
        </p:nvPicPr>
        <p:blipFill>
          <a:blip r:embed="rId10"/>
          <a:stretch/>
        </p:blipFill>
        <p:spPr>
          <a:xfrm>
            <a:off x="4267080" y="2517840"/>
            <a:ext cx="1295640" cy="12780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07"/>
          <p:cNvSpPr/>
          <p:nvPr/>
        </p:nvSpPr>
        <p:spPr>
          <a:xfrm>
            <a:off x="4434480" y="2286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ight Arrow 108"/>
          <p:cNvSpPr/>
          <p:nvPr/>
        </p:nvSpPr>
        <p:spPr>
          <a:xfrm>
            <a:off x="5562720" y="291312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ight Arrow 109"/>
          <p:cNvSpPr/>
          <p:nvPr/>
        </p:nvSpPr>
        <p:spPr>
          <a:xfrm rot="10800000">
            <a:off x="5486040" y="32176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5"/>
          <p:cNvSpPr/>
          <p:nvPr/>
        </p:nvSpPr>
        <p:spPr>
          <a:xfrm>
            <a:off x="0" y="2916360"/>
            <a:ext cx="3575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through standards implementation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ing map legends and parameter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monization of metadata records, e.g., how to handle multiple coverages in a W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practices in distributed access, processing and visualiz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with GEOSS Common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3600" y="7416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b81"/>
                </a:solidFill>
                <a:latin typeface="Arial"/>
              </a:rPr>
              <a:t>Future AC Portal</a:t>
            </a:r>
            <a:endParaRPr b="1" lang="en-US" sz="3200" spc="-1" strike="noStrike">
              <a:solidFill>
                <a:srgbClr val="184b81"/>
              </a:solidFill>
              <a:latin typeface="Arial"/>
            </a:endParaRPr>
          </a:p>
        </p:txBody>
      </p:sp>
      <p:sp>
        <p:nvSpPr>
          <p:cNvPr id="573" name="TextBox 43"/>
          <p:cNvSpPr/>
          <p:nvPr/>
        </p:nvSpPr>
        <p:spPr>
          <a:xfrm>
            <a:off x="3808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lans for AC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370400" y="3876840"/>
            <a:ext cx="388800" cy="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2170080" y="5595840"/>
            <a:ext cx="744480" cy="542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7" descr=""/>
          <p:cNvPicPr/>
          <p:nvPr/>
        </p:nvPicPr>
        <p:blipFill>
          <a:blip r:embed="rId2"/>
          <a:srcRect l="0" t="11168" r="0" b="0"/>
          <a:stretch/>
        </p:blipFill>
        <p:spPr>
          <a:xfrm>
            <a:off x="2133720" y="48769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2395440" y="5211720"/>
            <a:ext cx="749520" cy="603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9"/>
          <p:cNvSpPr/>
          <p:nvPr/>
        </p:nvSpPr>
        <p:spPr>
          <a:xfrm>
            <a:off x="2262600" y="490680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0"/>
          <p:cNvSpPr/>
          <p:nvPr/>
        </p:nvSpPr>
        <p:spPr>
          <a:xfrm>
            <a:off x="2427120" y="5364000"/>
            <a:ext cx="5814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S DI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1"/>
          <p:cNvSpPr/>
          <p:nvPr/>
        </p:nvSpPr>
        <p:spPr>
          <a:xfrm>
            <a:off x="2216880" y="579132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2"/>
          <p:cNvSpPr/>
          <p:nvPr/>
        </p:nvSpPr>
        <p:spPr>
          <a:xfrm>
            <a:off x="2438280" y="601992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3"/>
          <p:cNvSpPr/>
          <p:nvPr/>
        </p:nvSpPr>
        <p:spPr>
          <a:xfrm>
            <a:off x="2454120" y="6126120"/>
            <a:ext cx="5479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3200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3200400" y="5867280"/>
            <a:ext cx="27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4"/>
          <a:stretch/>
        </p:blipFill>
        <p:spPr>
          <a:xfrm>
            <a:off x="4950000" y="2438280"/>
            <a:ext cx="1655640" cy="13305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16"/>
          <p:cNvSpPr/>
          <p:nvPr/>
        </p:nvSpPr>
        <p:spPr>
          <a:xfrm>
            <a:off x="3352680" y="533412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PeND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7" descr=""/>
          <p:cNvPicPr/>
          <p:nvPr/>
        </p:nvPicPr>
        <p:blipFill>
          <a:blip r:embed="rId5"/>
          <a:stretch/>
        </p:blipFill>
        <p:spPr>
          <a:xfrm>
            <a:off x="4316400" y="5645160"/>
            <a:ext cx="743040" cy="536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7" descr=""/>
          <p:cNvPicPr/>
          <p:nvPr/>
        </p:nvPicPr>
        <p:blipFill>
          <a:blip r:embed="rId6"/>
          <a:srcRect l="0" t="11168" r="0" b="0"/>
          <a:stretch/>
        </p:blipFill>
        <p:spPr>
          <a:xfrm>
            <a:off x="428292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9" descr=""/>
          <p:cNvPicPr/>
          <p:nvPr/>
        </p:nvPicPr>
        <p:blipFill>
          <a:blip r:embed="rId7"/>
          <a:stretch/>
        </p:blipFill>
        <p:spPr>
          <a:xfrm>
            <a:off x="4548240" y="5261040"/>
            <a:ext cx="743040" cy="5968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2"/>
          <p:cNvSpPr/>
          <p:nvPr/>
        </p:nvSpPr>
        <p:spPr>
          <a:xfrm>
            <a:off x="441216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63"/>
          <p:cNvSpPr/>
          <p:nvPr/>
        </p:nvSpPr>
        <p:spPr>
          <a:xfrm>
            <a:off x="457704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4"/>
          <p:cNvSpPr/>
          <p:nvPr/>
        </p:nvSpPr>
        <p:spPr>
          <a:xfrm>
            <a:off x="436608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5"/>
          <p:cNvSpPr/>
          <p:nvPr/>
        </p:nvSpPr>
        <p:spPr>
          <a:xfrm>
            <a:off x="4587840" y="606600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6"/>
          <p:cNvSpPr/>
          <p:nvPr/>
        </p:nvSpPr>
        <p:spPr>
          <a:xfrm>
            <a:off x="460224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7" descr=""/>
          <p:cNvPicPr/>
          <p:nvPr/>
        </p:nvPicPr>
        <p:blipFill>
          <a:blip r:embed="rId8"/>
          <a:stretch/>
        </p:blipFill>
        <p:spPr>
          <a:xfrm>
            <a:off x="6145200" y="5645160"/>
            <a:ext cx="743040" cy="536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7" descr=""/>
          <p:cNvPicPr/>
          <p:nvPr/>
        </p:nvPicPr>
        <p:blipFill>
          <a:blip r:embed="rId9"/>
          <a:srcRect l="0" t="11168" r="0" b="0"/>
          <a:stretch/>
        </p:blipFill>
        <p:spPr>
          <a:xfrm>
            <a:off x="6111720" y="492300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7" descr=""/>
          <p:cNvPicPr/>
          <p:nvPr/>
        </p:nvPicPr>
        <p:blipFill>
          <a:blip r:embed="rId10"/>
          <a:stretch/>
        </p:blipFill>
        <p:spPr>
          <a:xfrm>
            <a:off x="6377040" y="5261040"/>
            <a:ext cx="743040" cy="596880"/>
          </a:xfrm>
          <a:prstGeom prst="rect">
            <a:avLst/>
          </a:prstGeom>
          <a:ln w="0">
            <a:noFill/>
          </a:ln>
        </p:spPr>
      </p:pic>
      <p:sp>
        <p:nvSpPr>
          <p:cNvPr id="598" name="TextBox 70"/>
          <p:cNvSpPr/>
          <p:nvPr/>
        </p:nvSpPr>
        <p:spPr>
          <a:xfrm>
            <a:off x="6240960" y="4952880"/>
            <a:ext cx="3895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71"/>
          <p:cNvSpPr/>
          <p:nvPr/>
        </p:nvSpPr>
        <p:spPr>
          <a:xfrm>
            <a:off x="6405840" y="5410080"/>
            <a:ext cx="61812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72"/>
          <p:cNvSpPr/>
          <p:nvPr/>
        </p:nvSpPr>
        <p:spPr>
          <a:xfrm>
            <a:off x="6194880" y="5837400"/>
            <a:ext cx="5526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3"/>
          <p:cNvSpPr/>
          <p:nvPr/>
        </p:nvSpPr>
        <p:spPr>
          <a:xfrm>
            <a:off x="6416640" y="6066000"/>
            <a:ext cx="53352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74"/>
          <p:cNvSpPr/>
          <p:nvPr/>
        </p:nvSpPr>
        <p:spPr>
          <a:xfrm>
            <a:off x="6431040" y="6172200"/>
            <a:ext cx="549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ounded Rectangle 75"/>
          <p:cNvSpPr/>
          <p:nvPr/>
        </p:nvSpPr>
        <p:spPr>
          <a:xfrm>
            <a:off x="1981080" y="4648320"/>
            <a:ext cx="1752840" cy="182880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1828800"/>
              <a:gd name="textAreaBottom" fmla="*/ 1743480 h 1828800"/>
            </a:gdLst>
            <a:ahLst/>
            <a:rect l="textAreaLeft" t="textAreaTop" r="textAreaRight" b="textAreaBottom"/>
            <a:pathLst>
              <a:path w="21600" h="22536">
                <a:moveTo>
                  <a:pt x="3600" y="0"/>
                </a:moveTo>
                <a:arcTo wR="3600" hR="3600" stAng="16200000" swAng="-5400000"/>
                <a:lnTo>
                  <a:pt x="0" y="18936"/>
                </a:lnTo>
                <a:arcTo wR="3600" hR="3600" stAng="10800000" swAng="-5400000"/>
                <a:lnTo>
                  <a:pt x="18000" y="22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ounded Rectangle 76"/>
          <p:cNvSpPr/>
          <p:nvPr/>
        </p:nvSpPr>
        <p:spPr>
          <a:xfrm>
            <a:off x="3962520" y="4724280"/>
            <a:ext cx="1523880" cy="18288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ounded Rectangle 77"/>
          <p:cNvSpPr/>
          <p:nvPr/>
        </p:nvSpPr>
        <p:spPr>
          <a:xfrm>
            <a:off x="5867280" y="47242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8"/>
          <p:cNvSpPr/>
          <p:nvPr/>
        </p:nvSpPr>
        <p:spPr>
          <a:xfrm>
            <a:off x="2301840" y="422100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9"/>
          <p:cNvSpPr/>
          <p:nvPr/>
        </p:nvSpPr>
        <p:spPr>
          <a:xfrm>
            <a:off x="4196160" y="4267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0"/>
          <p:cNvSpPr/>
          <p:nvPr/>
        </p:nvSpPr>
        <p:spPr>
          <a:xfrm>
            <a:off x="5706000" y="4282920"/>
            <a:ext cx="167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/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hape 83"/>
          <p:cNvCxnSpPr>
            <a:stCxn id="606" idx="0"/>
          </p:cNvCxnSpPr>
          <p:nvPr/>
        </p:nvCxnSpPr>
        <p:spPr>
          <a:xfrm flipH="1" flipV="1" rot="5400000">
            <a:off x="4035960" y="2772720"/>
            <a:ext cx="259200" cy="2637720"/>
          </a:xfrm>
          <a:prstGeom prst="curvedConnector2">
            <a:avLst/>
          </a:prstGeom>
          <a:ln w="0">
            <a:noFill/>
          </a:ln>
        </p:spPr>
      </p:cxnSp>
      <p:cxnSp>
        <p:nvCxnSpPr>
          <p:cNvPr id="610" name="Shape 85"/>
          <p:cNvCxnSpPr>
            <a:stCxn id="606" idx="0"/>
          </p:cNvCxnSpPr>
          <p:nvPr/>
        </p:nvCxnSpPr>
        <p:spPr>
          <a:xfrm flipH="1" flipV="1" rot="5400000">
            <a:off x="4086720" y="2528280"/>
            <a:ext cx="452880" cy="29329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1" name="Shape 86"/>
          <p:cNvCxnSpPr>
            <a:stCxn id="607" idx="0"/>
          </p:cNvCxnSpPr>
          <p:nvPr/>
        </p:nvCxnSpPr>
        <p:spPr>
          <a:xfrm flipH="1" flipV="1" rot="5400000">
            <a:off x="5016960" y="3504600"/>
            <a:ext cx="498960" cy="10263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2" name="Shape 88"/>
          <p:cNvCxnSpPr>
            <a:stCxn id="608" idx="0"/>
          </p:cNvCxnSpPr>
          <p:nvPr/>
        </p:nvCxnSpPr>
        <p:spPr>
          <a:xfrm flipV="1" rot="16200000">
            <a:off x="5905080" y="3643200"/>
            <a:ext cx="514440" cy="76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3" name="Picture 46" descr=""/>
          <p:cNvPicPr/>
          <p:nvPr/>
        </p:nvPicPr>
        <p:blipFill>
          <a:blip r:embed="rId11"/>
          <a:stretch/>
        </p:blipFill>
        <p:spPr>
          <a:xfrm>
            <a:off x="2435400" y="2438280"/>
            <a:ext cx="1295280" cy="127800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07"/>
          <p:cNvSpPr/>
          <p:nvPr/>
        </p:nvSpPr>
        <p:spPr>
          <a:xfrm>
            <a:off x="2602440" y="2206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ight Arrow 108"/>
          <p:cNvSpPr/>
          <p:nvPr/>
        </p:nvSpPr>
        <p:spPr>
          <a:xfrm>
            <a:off x="3959280" y="274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ight Arrow 109"/>
          <p:cNvSpPr/>
          <p:nvPr/>
        </p:nvSpPr>
        <p:spPr>
          <a:xfrm rot="10800000">
            <a:off x="3882600" y="30477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2"/>
          <a:stretch/>
        </p:blipFill>
        <p:spPr>
          <a:xfrm>
            <a:off x="3654360" y="1523880"/>
            <a:ext cx="614520" cy="3812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12"/>
          <p:cNvSpPr/>
          <p:nvPr/>
        </p:nvSpPr>
        <p:spPr>
          <a:xfrm>
            <a:off x="3045600" y="13716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114"/>
          <p:cNvCxnSpPr/>
          <p:nvPr/>
        </p:nvCxnSpPr>
        <p:spPr>
          <a:xfrm flipH="1">
            <a:off x="3653640" y="1980000"/>
            <a:ext cx="38196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Straight Arrow Connector 116"/>
          <p:cNvCxnSpPr/>
          <p:nvPr/>
        </p:nvCxnSpPr>
        <p:spPr>
          <a:xfrm>
            <a:off x="4340160" y="243828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21" name="Straight Arrow Connector 118"/>
          <p:cNvCxnSpPr/>
          <p:nvPr/>
        </p:nvCxnSpPr>
        <p:spPr>
          <a:xfrm>
            <a:off x="4193640" y="1990800"/>
            <a:ext cx="38196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Rounded Rectangle 121"/>
          <p:cNvSpPr/>
          <p:nvPr/>
        </p:nvSpPr>
        <p:spPr>
          <a:xfrm>
            <a:off x="5105520" y="1523880"/>
            <a:ext cx="2743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Curved Connector 123"/>
          <p:cNvCxnSpPr>
            <a:stCxn id="622" idx="2"/>
          </p:cNvCxnSpPr>
          <p:nvPr/>
        </p:nvCxnSpPr>
        <p:spPr>
          <a:xfrm rot="5400000">
            <a:off x="6012720" y="1974240"/>
            <a:ext cx="229320" cy="699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4" name="Picture 47" descr=""/>
          <p:cNvPicPr/>
          <p:nvPr/>
        </p:nvPicPr>
        <p:blipFill>
          <a:blip r:embed="rId13"/>
          <a:srcRect l="11239" t="10006" r="14997" b="4025"/>
          <a:stretch/>
        </p:blipFill>
        <p:spPr>
          <a:xfrm>
            <a:off x="6651720" y="1608120"/>
            <a:ext cx="76176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5" name="TextBox 127"/>
          <p:cNvSpPr/>
          <p:nvPr/>
        </p:nvSpPr>
        <p:spPr>
          <a:xfrm>
            <a:off x="6908400" y="182880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78"/>
          <p:cNvSpPr/>
          <p:nvPr/>
        </p:nvSpPr>
        <p:spPr>
          <a:xfrm>
            <a:off x="5571000" y="121932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provid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4"/>
          <a:srcRect l="3768" t="10037" r="5633" b="5985"/>
          <a:stretch/>
        </p:blipFill>
        <p:spPr>
          <a:xfrm>
            <a:off x="5257800" y="1614600"/>
            <a:ext cx="838080" cy="48564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sp>
        <p:nvSpPr>
          <p:cNvPr id="628" name="TextBox 127"/>
          <p:cNvSpPr/>
          <p:nvPr/>
        </p:nvSpPr>
        <p:spPr>
          <a:xfrm>
            <a:off x="5388120" y="1828800"/>
            <a:ext cx="10890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P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aboration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63"/>
          <p:cNvGrpSpPr/>
          <p:nvPr/>
        </p:nvGrpSpPr>
        <p:grpSpPr>
          <a:xfrm>
            <a:off x="2133720" y="5181480"/>
            <a:ext cx="6781680" cy="1524240"/>
            <a:chOff x="2133720" y="5181480"/>
            <a:chExt cx="6781680" cy="1524240"/>
          </a:xfrm>
        </p:grpSpPr>
        <p:sp>
          <p:nvSpPr>
            <p:cNvPr id="630" name="Oval 59"/>
            <p:cNvSpPr/>
            <p:nvPr/>
          </p:nvSpPr>
          <p:spPr>
            <a:xfrm>
              <a:off x="2133720" y="586728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60"/>
            <p:cNvSpPr/>
            <p:nvPr/>
          </p:nvSpPr>
          <p:spPr>
            <a:xfrm>
              <a:off x="4267080" y="594360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61"/>
            <p:cNvSpPr/>
            <p:nvPr/>
          </p:nvSpPr>
          <p:spPr>
            <a:xfrm>
              <a:off x="6096240" y="586728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62"/>
            <p:cNvSpPr/>
            <p:nvPr/>
          </p:nvSpPr>
          <p:spPr>
            <a:xfrm>
              <a:off x="7543800" y="5181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eek to connect with data and tools from ot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5:48:18Z</dcterms:created>
  <dc:creator>Stefan Falke</dc:creator>
  <dc:description/>
  <dc:language>en-US</dc:language>
  <cp:lastModifiedBy>Stefan Falke</cp:lastModifiedBy>
  <dcterms:modified xsi:type="dcterms:W3CDTF">2010-07-21T16:13:18Z</dcterms:modified>
  <cp:revision>2</cp:revision>
  <dc:subject/>
  <dc:title>The CEOS WGISS Atmospheric Composition Portal</dc:title>
</cp:coreProperties>
</file>